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8.png" ContentType="image/png"/>
  <Override PartName="/ppt/media/image3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49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39.png" ContentType="image/png"/>
  <Override PartName="/ppt/media/image28.wmf" ContentType="image/x-wmf"/>
  <Override PartName="/ppt/media/image30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61.png" ContentType="image/png"/>
  <Override PartName="/ppt/media/image71.png" ContentType="image/png"/>
  <Override PartName="/ppt/media/image2.wmf" ContentType="image/x-wmf"/>
  <Override PartName="/ppt/media/image57.png" ContentType="image/png"/>
  <Override PartName="/ppt/media/image20.png" ContentType="image/png"/>
  <Override PartName="/ppt/media/image22.png" ContentType="image/png"/>
  <Override PartName="/ppt/media/image62.png" ContentType="image/png"/>
  <Override PartName="/ppt/media/image23.wmf" ContentType="image/x-wmf"/>
  <Override PartName="/ppt/media/image66.png" ContentType="image/png"/>
  <Override PartName="/ppt/media/image26.png" ContentType="image/png"/>
  <Override PartName="/ppt/media/image27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76.png" ContentType="image/png"/>
  <Override PartName="/ppt/media/image7.wmf" ContentType="image/x-wmf"/>
  <Override PartName="/ppt/media/image75.wmf" ContentType="image/x-wmf"/>
  <Override PartName="/ppt/media/image35.png" ContentType="image/png"/>
  <Override PartName="/ppt/media/image63.wmf" ContentType="image/x-wmf"/>
  <Override PartName="/ppt/media/image17.png" ContentType="image/png"/>
  <Override PartName="/ppt/media/image74.wmf" ContentType="image/x-wmf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5.png" ContentType="image/png"/>
  <Override PartName="/ppt/media/image67.png" ContentType="image/png"/>
  <Override PartName="/ppt/media/image24.wmf" ContentType="image/x-wmf"/>
  <Override PartName="/ppt/media/image34.wmf" ContentType="image/x-wmf"/>
  <Override PartName="/ppt/media/image77.png" ContentType="image/png"/>
  <Override PartName="/ppt/media/image8.wmf" ContentType="image/x-wmf"/>
  <Override PartName="/ppt/media/image40.png" ContentType="image/png"/>
  <Override PartName="/ppt/media/image5.wmf" ContentType="image/x-wmf"/>
  <Override PartName="/ppt/media/image25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12.png" ContentType="image/png"/>
  <Override PartName="/ppt/media/image52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A63-2DAC-43B0-913B-2366F9E3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21-FE83-4475-A35F-24F7115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69E-CAB0-4573-9524-F9D97A76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B3A-3927-487D-B381-736D4E2E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1373-DA3C-43C4-BBEA-40D80AA0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833C-8381-4846-B4AB-2952711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E9B0-4539-49B0-844A-043313F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3E0F-7553-4F17-8AAC-2536360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0571-312A-4365-8945-EB0C8CB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16D-6121-48C9-A55F-3FEE32F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A8FD-40F3-4D2D-B991-AE35B7B3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0AD-60CD-4E11-9B6D-56526A4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4FE8-99E7-4A3C-BB4D-4EB3DE9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5EDB-7A73-4E3A-9AB9-F3726E9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4167-DC6E-4A9C-BCA3-9F64F560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A4C9-D897-443A-A29C-F34000D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395-B6E5-40AA-830E-6BCF8239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7F3-73E1-4A56-9F01-B710BC1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55F-06F5-4619-B0D7-F28BA81C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8E6-901D-4841-9474-CD006E3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EF1-83E2-4CE9-9BC7-B119950E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5BD-D7D9-4986-9235-4541088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F59-F531-4918-8B75-325853E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3E8-4494-4253-8D3E-B28B52C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8690-8EE0-4103-BDD6-1C6C7CFB8DC0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48F-E95E-46AB-86B9-7D78C22685A0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盲反卷积和盲信道估计</a:t>
            </a:r>
            <a:br>
              <a:rPr sz="40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ind Deconvolution/Blind Channel Esti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引言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基于二阶统计量的盲信道估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基于高阶统计量的盲信道估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基于高阶统计量的盲反卷积（盲均衡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同态滤波技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应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回声的产生</a:t>
            </a:r>
            <a:br>
              <a:rPr sz="4400"/>
            </a:b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一个简单的卷积实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6172200" cy="4627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0102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得到回声的方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原始信号和如下信号进行卷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600200" y="3048120"/>
          <a:ext cx="502920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50292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3506760" y="411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50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40480" y="4191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62520" y="36576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172200" y="37339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性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14280" y="2266920"/>
            <a:ext cx="671544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卷积可以用方程组来表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当输入信号已知，信道未知时，是信道估计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当输入信号未知，信道已知时，是反卷积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85800" y="2438280"/>
          <a:ext cx="327672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32767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572000" y="2514600"/>
          <a:ext cx="3733920" cy="17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37339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184572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4240" y="4800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信道估计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876320"/>
            <a:ext cx="9115560" cy="498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0" y="1995480"/>
            <a:ext cx="9029520" cy="443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部分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-4680" y="2000160"/>
            <a:ext cx="9153360" cy="462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频域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简单的相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理论上卷积在频域和时域的运算是对应的，但由于在实际信号处理中，往往要求卷积算子（时域和频域）是有限长的，如滤波器的设计，而时域有限长算子变换到频域则为无限长，所以需要进行加窗处理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ibbs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效应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3962160" cy="30081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4648320" y="685800"/>
            <a:ext cx="3657600" cy="2854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2438280" y="3657600"/>
            <a:ext cx="3940200" cy="3014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5992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原始信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3480" y="3581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频域滤波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9204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滤波输出信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本课内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卷积概念和数学定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143320" cy="3828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811680" y="51814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滤波前后信号的振幅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图象处理中的卷积运算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去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插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边缘增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滤波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均值滤波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696080" cy="43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4267080" y="457200"/>
          <a:ext cx="259092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57200"/>
                    <a:ext cx="2590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05920" cy="2103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39160" y="76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边缘增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0400" y="487692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www.eas.asu.edu/~karam/2dconvolution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281240" y="1986120"/>
            <a:ext cx="6581520" cy="300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2000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66680" y="1981080"/>
          <a:ext cx="716292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8076960" cy="40053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353760" y="777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二维卷积运算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94080" y="144792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www.eas.asu.edu/~karam/2dconvolution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23840" y="1647720"/>
            <a:ext cx="9020160" cy="5210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334120" y="5791320"/>
            <a:ext cx="3809880" cy="56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5791320" y="1995480"/>
            <a:ext cx="2619360" cy="4495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5715000" cy="17812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224080"/>
            <a:ext cx="838440" cy="1219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5086440"/>
            <a:ext cx="838080" cy="1218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105520" y="2681280"/>
          <a:ext cx="8380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81280"/>
                    <a:ext cx="8380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5867280" y="2909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5092560" y="5576760"/>
          <a:ext cx="86364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5576760"/>
                    <a:ext cx="8636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6019920" y="580536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号滤波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号插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线性系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卷积的频域形式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时域的卷积等价于频域的乘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可以利用快速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FT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算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反卷积等价于频域的除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371600" y="4419720"/>
          <a:ext cx="51055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419720"/>
                    <a:ext cx="51055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卷积的频域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85920" y="2019240"/>
            <a:ext cx="6572160" cy="3314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62120" y="3352680"/>
            <a:ext cx="5029200" cy="685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和病态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276720" y="2060640"/>
          <a:ext cx="281916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28191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1447920" y="388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反卷积：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、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已知，求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2743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道估计：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已知，求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5029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问题：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352680" y="3110040"/>
          <a:ext cx="350532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110040"/>
                    <a:ext cx="35053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429000" y="4338720"/>
          <a:ext cx="3483000" cy="84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338720"/>
                    <a:ext cx="34830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的频域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838080" y="2971800"/>
          <a:ext cx="807732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8077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838080" y="2057400"/>
          <a:ext cx="80010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800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1371600" y="3809880"/>
            <a:ext cx="6657840" cy="219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685800" y="1981080"/>
          <a:ext cx="787572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7572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的病态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468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结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143000" y="914400"/>
          <a:ext cx="69991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9991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2226600" y="2819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加噪信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61400" y="28195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不同信噪比情况下的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结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365760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病态性的几点说明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非完全卷积，即存在边缘问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信道在频域中存在零点，存在零点不一定病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信道估计误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2009880"/>
            <a:ext cx="9058320" cy="311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-4680" y="1905120"/>
            <a:ext cx="921996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部分卷积和循环矩阵计算模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19200" y="2009880"/>
            <a:ext cx="7905600" cy="37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部分卷积和循环矩阵计算模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533520" y="2000160"/>
            <a:ext cx="8296200" cy="451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438280"/>
            <a:ext cx="1295280" cy="703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系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源信号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26668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266688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接收信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4952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卷积模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812960" y="2057400"/>
          <a:ext cx="6429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05740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955960" y="3276720"/>
          <a:ext cx="6429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5960" y="327672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138720" y="2514600"/>
          <a:ext cx="67788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8720" y="2514600"/>
                    <a:ext cx="6778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489480" y="3581280"/>
          <a:ext cx="4435200" cy="14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89480" y="3581280"/>
                    <a:ext cx="4435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641760" y="4952880"/>
          <a:ext cx="33526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1760" y="4952880"/>
                    <a:ext cx="3352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606840" y="5808600"/>
          <a:ext cx="16254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06840" y="5808600"/>
                    <a:ext cx="1625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循环矩阵计算模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914400" y="2000160"/>
            <a:ext cx="7391520" cy="33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非循环矩阵计算模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0104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循环矩阵和非循环矩阵病态性比较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09480" y="2133720"/>
          <a:ext cx="81424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142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1616400" y="5354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实线：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循环矩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虚线：非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循环矩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方程组求解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最小二乘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加权最小二乘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总体最小二乘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最小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-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范数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最小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范数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2438280" y="4648320"/>
          <a:ext cx="5335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648320"/>
                    <a:ext cx="5335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奇异值分解降低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838080" y="2009880"/>
            <a:ext cx="7524720" cy="374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奇异值分解降低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600200" y="2000160"/>
            <a:ext cx="6134040" cy="4019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奇异值分解降低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8248680" cy="4057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248000" y="3657600"/>
            <a:ext cx="4896000" cy="25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频域克服病态性方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62120" y="1981080"/>
          <a:ext cx="80769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769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1447920" y="3276720"/>
            <a:ext cx="6657840" cy="219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滤波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143000"/>
          <a:ext cx="769644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69644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7791480" cy="30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76520" y="2009880"/>
            <a:ext cx="4610160" cy="39430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滤波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59160" y="4495680"/>
            <a:ext cx="109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噪声功率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95800" y="4495680"/>
            <a:ext cx="14608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输入信号功率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962520" y="411480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5715000" y="40384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438280"/>
            <a:ext cx="1295280" cy="703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系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源信号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6668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27432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514600"/>
            <a:ext cx="685800" cy="609480"/>
          </a:xfrm>
          <a:prstGeom prst="flowChartOr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266688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3124080"/>
            <a:ext cx="304920" cy="1067040"/>
          </a:xfrm>
          <a:prstGeom prst="upArrow">
            <a:avLst>
              <a:gd name="adj1" fmla="val 50000"/>
              <a:gd name="adj2" fmla="val 87485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噪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接收信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4952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卷积模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12960" y="2057400"/>
          <a:ext cx="6429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05740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955960" y="3276720"/>
          <a:ext cx="6429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5960" y="327672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621400" y="3733920"/>
          <a:ext cx="6444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1400" y="3733920"/>
                    <a:ext cx="64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586640" y="2438280"/>
          <a:ext cx="6778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6640" y="2438280"/>
                    <a:ext cx="677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565440" y="4419720"/>
          <a:ext cx="43005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5440" y="4419720"/>
                    <a:ext cx="4300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548160" y="5029200"/>
          <a:ext cx="47084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48160" y="5029200"/>
                    <a:ext cx="4708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624120" y="5715000"/>
          <a:ext cx="243684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24120" y="5715000"/>
                    <a:ext cx="2436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滤波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838080" y="1533600"/>
            <a:ext cx="7534440" cy="532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1080" cy="385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8440" y="1523880"/>
            <a:ext cx="8982360" cy="530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905120" y="2057400"/>
          <a:ext cx="487656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48765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057400" y="4267080"/>
          <a:ext cx="556272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267080"/>
                    <a:ext cx="55627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722920" cy="428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722920" cy="428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进一步阅读资料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邹谋炎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反卷积和信号复原，国防工业出版社，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第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运算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时域两种方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矩阵形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频域一种方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990720" y="2133720"/>
          <a:ext cx="70866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0866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81080" y="5410080"/>
          <a:ext cx="2038320" cy="2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410080"/>
                    <a:ext cx="2038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5562720" y="5410080"/>
          <a:ext cx="225720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410080"/>
                    <a:ext cx="22572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48120" y="6019920"/>
          <a:ext cx="325728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6019920"/>
                    <a:ext cx="3257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869760" y="276372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反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积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28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666880" y="2514600"/>
          <a:ext cx="420048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42004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981080" y="5410080"/>
          <a:ext cx="2038320" cy="2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410080"/>
                    <a:ext cx="2038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5562720" y="5410080"/>
          <a:ext cx="225720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410080"/>
                    <a:ext cx="22572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048120" y="6019920"/>
          <a:ext cx="325728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6019920"/>
                    <a:ext cx="3257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2774880" y="2460600"/>
          <a:ext cx="1123920" cy="75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4880" y="2460600"/>
                    <a:ext cx="1123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400800" cy="401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09480" y="762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ptical Coherence Tomography (OCT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752480" y="2819520"/>
          <a:ext cx="60984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819520"/>
                    <a:ext cx="609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3200400" y="5029200"/>
          <a:ext cx="64296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502920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6172200" y="2590920"/>
          <a:ext cx="67788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590920"/>
                    <a:ext cx="677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6:01:37Z</dcterms:created>
  <dc:creator> lwk</dc:creator>
  <dc:description/>
  <dc:language>en-US</dc:language>
  <cp:lastModifiedBy>lwk</cp:lastModifiedBy>
  <dcterms:modified xsi:type="dcterms:W3CDTF">2004-09-21T05:22:20Z</dcterms:modified>
  <cp:revision>54</cp:revision>
  <dc:subject/>
  <dc:title>盲信号处理：理论及应用 Blind Signal Processing: Theory and Applications</dc:title>
</cp:coreProperties>
</file>